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93D-DBD8-4544-9351-51CE858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0D9-8951-4B1B-96BF-9864805B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F87-5E59-46C5-8BC1-30059D8D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E5F-E045-4388-9EF8-22B7AFA6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0B0-7D42-4C38-91DE-23BD066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6B4-12BE-43C2-9D62-F918E1CD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321-0A48-4302-BC7B-7DF3806E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9C5-4583-456B-A039-1B3C2FC2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87D-E2D4-4E3A-A519-D7E0468D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7AC-88C0-4B97-A3FB-8F18042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FDE-3DCE-409D-BB14-CE7845A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5FC-550D-438A-8536-6201C6C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16C-FE82-47DD-837A-11BBCCE5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sillyputty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ow/sillyputty.html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eb.mit.edu/invent/iow/sillyputty.html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28600" cy="8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038000">
            <a:off x="2806920" y="-1086480"/>
            <a:ext cx="4640400" cy="8032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il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Put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510552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tne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nesday, December 07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486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James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4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utty head"/>
          <p:cNvPicPr/>
          <p:nvPr/>
        </p:nvPicPr>
        <p:blipFill>
          <a:blip r:embed="rId1"/>
          <a:stretch/>
        </p:blipFill>
        <p:spPr>
          <a:xfrm rot="20449800">
            <a:off x="609480" y="449532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4648320"/>
            <a:ext cx="2362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lly Pu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ursday, December 0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utty Man"/>
          <p:cNvPicPr/>
          <p:nvPr/>
        </p:nvPicPr>
        <p:blipFill>
          <a:blip r:embed="rId3"/>
          <a:stretch/>
        </p:blipFill>
        <p:spPr>
          <a:xfrm rot="373200">
            <a:off x="4723920" y="426672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191120"/>
            <a:ext cx="2209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lly Put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December 01, 20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utty Fortress"/>
          <p:cNvPicPr/>
          <p:nvPr/>
        </p:nvPicPr>
        <p:blipFill>
          <a:blip r:embed="rId5"/>
          <a:stretch/>
        </p:blipFill>
        <p:spPr>
          <a:xfrm rot="253800">
            <a:off x="380880" y="304920"/>
            <a:ext cx="5334120" cy="403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38088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illy Put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December 01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lly putty’s original name was “Nutty Putty”, Mostly because it was a ‘‘nutty’’, or crazy substan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Silly Putty is made up of boric acid and silicon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Silly Putty can copy any printed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ecause Silly Putty can copy most all printed information most spies used it to gather importan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lly putty was essential million dollar seller mostly because it could do practically any thing like hol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urnishing steady to holding tools i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ight before Easter James chose to put the putty into eggs for a little bit more fun around Easter ti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J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mes</a:t>
            </a: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 W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James was an G.E. engineer when he mixed the boric acid and the silicone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n 1949 James attended a party which Silly Putty was the main entertai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James died in 1976 but Silly Putty is still a recognized name in over 95% of American house hol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James’s product left him an estate of $140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1Z</dcterms:created>
  <dc:creator>install</dc:creator>
  <dc:description/>
  <dc:language>en-US</dc:language>
  <cp:lastModifiedBy>install</cp:lastModifiedBy>
  <dcterms:modified xsi:type="dcterms:W3CDTF">2011-12-16T16:42:34Z</dcterms:modified>
  <cp:revision>13</cp:revision>
  <dc:subject/>
  <dc:title>Slide 1</dc:title>
</cp:coreProperties>
</file>